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8C6-0D30-4F69-B6DC-DB87EEC2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17D-781C-475E-8F71-DFE2C1E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1AC-12EA-4A31-AF0E-564E761D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041-8462-4F5A-B079-38709380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E09-3777-4548-A2CE-5473EDA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6B0-F11F-4A7E-AAB1-C22073F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041-94A9-40A4-9684-44300FF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391-AC70-4468-AD35-F7CF1431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9AC-2293-4152-9101-C88DBD23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29A-571D-4C48-8F8A-4270B14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8CA-85D5-407C-8B93-244F5EC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A4C-7F75-4CD8-B031-3E09CFA3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7F77-EDFF-4DC0-8598-151C914D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0" y="-311760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72800" y="4647960"/>
            <a:ext cx="2286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76720"/>
            <a:ext cx="49528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ren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u lapin”, répond le ren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secours!” crie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277720" y="2315520"/>
            <a:ext cx="35812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182120" y="4419720"/>
            <a:ext cx="16765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renard se précipite sur lui pour le mang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72240" y="-427608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868280" y="4724280"/>
            <a:ext cx="198144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n’arrive qu’a  lui croquer les orei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303880"/>
            <a:ext cx="38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sieur Lapin tout tremblant rentre vite chez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53680" y="-3513240"/>
            <a:ext cx="152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63068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 les carottes font pousser les oreilles des lapins,   il s’en prépare une   grande mar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62320" y="54864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 appétit! Monsieur La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rouve ça très 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onsieur Lapin à qui est-ce qu’il a demandé le prèmier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Qui mangé des 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a baleine mangé 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rais ou faux: M. Lapin trouve la marmite très 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Qui dit: “Au secour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Qui manges des lar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Qui manges les bana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Qui manges du lap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0" y="-46328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0" y="594324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297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ieur Lapin n’aime plus les carot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48920" y="-3780000"/>
            <a:ext cx="304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86840" y="5410080"/>
            <a:ext cx="1523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quitte sa maison pour aller regarder dans l’assiette de ses vois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6640" y="1895760"/>
            <a:ext cx="487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600840" y="4952880"/>
            <a:ext cx="3962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715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à la grenou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mouches”, répond-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ah!” fa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87200" y="1523880"/>
            <a:ext cx="2819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49320" y="6324480"/>
            <a:ext cx="129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5760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à l’oi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vers”, répond l’oi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urk!” fa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35120" y="1209960"/>
            <a:ext cx="3124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82280" y="4190760"/>
            <a:ext cx="4572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9528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po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des larves”, répond le poi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ès peu pour moi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6120" y="-198720"/>
            <a:ext cx="76176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58040" y="12952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marL="1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manges-tu?” demande-t-il au co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3352680"/>
            <a:ext cx="48769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coc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ange n’importe quoi”, répond le coc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h bien, pas moi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3640" y="-429048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3640" y="6095520"/>
            <a:ext cx="25909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0384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’-tu?” demande-t-il à la bal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plancton”, répond la bale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’est-ce que c’est que ça?”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11280" y="-47160"/>
            <a:ext cx="9144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01600" y="4800240"/>
            <a:ext cx="4038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657600"/>
            <a:ext cx="60199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manges-tu?” demande-t-il au s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bananes”, répond le si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Ça ne pousse pas dans mon jardin”, dit Monsieur La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1:07Z</dcterms:created>
  <dc:creator>CVJH-LAB</dc:creator>
  <dc:description/>
  <dc:language>en-US</dc:language>
  <cp:lastModifiedBy>nield411</cp:lastModifiedBy>
  <dcterms:modified xsi:type="dcterms:W3CDTF">2008-02-23T22:27:25Z</dcterms:modified>
  <cp:revision>10</cp:revision>
  <dc:subject/>
  <dc:title>Slide 1</dc:title>
</cp:coreProperties>
</file>